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BDB169F6-7D70-4E0E-BCF9-A21CA91E8798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31517F3-979D-46ED-B57A-1F3B64251C61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 judgement -&gt; climate services always need expert judgment (tools + material not enough) material important, but human aspect is important and we need people to bridge gap b/w scientist and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 Application Programmin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S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d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sca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4F587F6C-EE04-4EE2-84CC-86A240BAAD4D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given by energy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200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forec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ings behind the low wind in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ing with user and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 Produce autmo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of ENSO on wind speed – regression of sfc wind speed on nino3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00C98AD-18FF-4AAA-A882-87ED58EADECE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ll over a region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and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onding to request from cie – interactive portal to explore seasonal forec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3E23768-A232-4387-A8E8-5EEBAA6A222C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? CHF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mate historical forecas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pository of seasonal forecast experiment past 15 years hosted ini Un. Buenos 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PL license which allows for redistribution and commercial u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ffer software and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No shortage of problem? Justification of the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hop – BS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ind – coord initial shock and drift : PREFACE + SPECS + WCRP (welcome as attende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Barcel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 in a patient, symptom, but disease is burie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B14D48B6-24C3-4E70-9CE7-DB5434E6B908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Why? Link with RCOF, NHMS – MetCOF (southern European + northern Afric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isation tools -&gt; Statistial (downscal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emnitation and communication protocol – factsheet + dissimantino data, what s2d is, climate4impact por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new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dvantage of development from other communities (climate change, weather forecasting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ve vegetation in the land surface, included in cc model, in seasonal forecasting impact LAI + albedo, bring predic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COF regional climate outlook forum, WMO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MS national hydro meteorologica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 west African mons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4  make the most of what is currently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5 development of empirical model (for s2d) used as benchmark + make forecast to be reliable through postproce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 Research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6 interaction with EUPO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blem posed by user and given to modelers (only scientist who can say if the model output can be use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+Dissimination linking to other portal (climate explorer, climate4impact) + WMO (world climate research program +GFCS) + Training (MetCOF) + factsheet + RCOF (West and East Afric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FCS Global framework for climate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? Link previous page – require lot of cpu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ually run a few members (5-10) – results sensitive to ensemble size and decision is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t sometimes large ensemble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eriments are very expensive ‘: many start dates and large ensemble to have robust resul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romise has to be taken – issue addressed by SP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of empirical forecast system as benchmark for G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semble of empirical forecast with full forecast 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nana vs 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quivalent for decad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del is global and probabil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50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cr.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land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sea ice + snow init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teractive troposphere aeros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i volcanic aeros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5820-5DBE-4F11-A5D2-452226619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ADC0-C8AF-4326-99DC-CB354D11F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DD86-B987-4D61-9653-C81BDB96E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FD93-C190-4ED0-9235-348F05999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0B9C-7DC3-4D34-B565-56A0F9B86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5B310-7CE6-4D53-A344-5221427BEA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3C6F-A5C8-4280-AA6F-D7763BDBAF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D3E3-C369-4E97-8F2A-39B3C504A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7C8A4-98AD-4550-840E-DEF92DD59A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FFA33-A5B6-40F4-814F-A4C057BFA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C0D6-8E77-4573-BC9D-C4B8D3B1D4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B8A5E-3CB1-4589-9517-9FD0D78939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475B-CE80-480C-A3C3-51DAB3CC5B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DD26-ADDD-432C-A89A-04C51101DA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370E5-9DCA-4F1D-8CA8-3D3E0030B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EED37-30C4-4937-AFBD-5D98F4E00E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93E1B-EA21-4A0D-B278-D347A4AF7D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BA54D-0B62-4002-AC80-2C1C6D68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B67F-8D38-4EE8-A01B-121009905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2E7C-9BF9-47E2-80C9-E1BE804A7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1569-8C0C-42E4-B19E-8B66EC328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9C7C-C41B-4B90-A644-DCD0746C2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5119-7924-40A7-B276-A8A9C2503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8195-3790-4451-99B9-E84F3C403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44C58-FA5D-4871-82D8-6DE01B506528}" type="slidenum"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52EF6-8E7B-4377-9DF0-0954A79CBDB7}" type="slidenum">
              <a:rPr b="0" lang="es-E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6105600" y="5932440"/>
            <a:ext cx="1684440" cy="774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Louis-Philippe Car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7" descr="logo_BSC2"/>
          <p:cNvPicPr/>
          <p:nvPr/>
        </p:nvPicPr>
        <p:blipFill>
          <a:blip r:embed="rId2"/>
          <a:srcRect l="0" t="0" r="23921" b="50080"/>
          <a:stretch/>
        </p:blipFill>
        <p:spPr>
          <a:xfrm>
            <a:off x="7910640" y="5932440"/>
            <a:ext cx="113652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1F4B0-C35E-4160-AC45-166BEDE12429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beyond usu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onvention defined for climate predictions to be full part of other climate data dissemination infrastructure (including CMIP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imate prediction fact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ibution to portals, b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 beyond portals, focus on APIs (made public also for commercial purpo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xpert judgement cannot be made automatic in a forecast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-200520" y="5840280"/>
            <a:ext cx="297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aron et al. (GRL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5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06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00DA5-FA77-4738-8363-43E4C10F1810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sc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287280" y="1405080"/>
            <a:ext cx="37004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ports on wind-energy potential produced in collaboration with EUPORIAS where both science and user requests meet in a single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D35B2-2D74-40BB-9D7C-1214A168EC5C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4362480" y="860400"/>
            <a:ext cx="3821040" cy="52941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5099040" y="1619280"/>
            <a:ext cx="33984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25600" y="1392120"/>
            <a:ext cx="8089920" cy="4415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port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BEBF3-CC80-4503-8ABF-9BF7D76E385A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4920" y="898560"/>
            <a:ext cx="9053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ttps://giotto.casaccia.enea.it/specs-solar/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-205560" y="5840280"/>
            <a:ext cx="402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 Felice et al. (Appl. Energy, 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DCD99-7710-478C-A0D0-689B8A14A170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50237-9793-43C3-B25F-66A4811C6B9F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90CD1-D9D7-41B6-83DA-E70B9D858BC0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Text Box 9"/>
          <p:cNvSpPr/>
          <p:nvPr/>
        </p:nvSpPr>
        <p:spPr>
          <a:xfrm rot="19714800">
            <a:off x="328320" y="301572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  <a:ea typeface="Arial"/>
              </a:rPr>
              <a:t>All these functions and packages are publicly available without restric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CD9DC-24CB-4EE3-B147-D6995494A756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crea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92C8B-BCD4-4416-959D-155E477F4F93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4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  <a:ea typeface="Arial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8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ecadal forecasts in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0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1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8D3E4-3A27-4E82-8668-2C63018BD61E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2840" y="2951280"/>
            <a:ext cx="249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Joint SPECS-PREFACE-WCRP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Barcelon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ay 10-1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0CCE9-E675-40E4-8BAF-1F8370E2F654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83D99-ADAE-45A7-BC12-4C189604C00B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  <a:ea typeface="Arial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6CC29-5E0A-4EAF-8316-2CD90F2004A0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76B3D-C892-4386-AAA5-FCE9A29142AE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olution and uncertain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tions with EC-Earth3 started every May over 1993-2009 with ERAInt and GLORYS2v1 initial conditions, and internal sea-ice reco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204480" y="5840280"/>
            <a:ext cx="258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llprat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2370240"/>
            <a:ext cx="91440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AC721-F67C-4370-B794-713BB44E7BDE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59560" y="5880240"/>
            <a:ext cx="29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Eden et al. (GMD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46652-BF33-4D1A-80DD-516DC60213F2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SPECS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most 100 papers published or in p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coordinated prediction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terabytes of data available from B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rdinated case studies (data provided people outside SPE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lcaron</cp:lastModifiedBy>
  <dcterms:modified xsi:type="dcterms:W3CDTF">2016-04-25T22:38:06Z</dcterms:modified>
  <cp:revision>493</cp:revision>
  <dc:subject/>
  <dc:title>Presentación de PowerPoint</dc:title>
</cp:coreProperties>
</file>